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519-A9DE-4C15-9E73-B89B717D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3CE-B283-465B-BD18-51A4B58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796-F4BD-419E-9337-1717B62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B51-18EE-4E80-93A1-BB08D40E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9DE0-1A18-4906-9617-4CDC2D67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39B-2485-4115-A59F-9F20571C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A5C9-E3B8-4E24-8262-915D7BE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202-C872-4718-9651-5377290D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C532-E05B-4EB9-80F9-DB92AA0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D875-AC69-4B36-9B60-820E230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8C9C-BB28-411B-BCC4-4944F66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B6F-0FD7-4F51-8665-A26EAFA8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389-6BF3-4580-89D0-7B1AD10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BD9-692E-421A-A308-D9279D1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B840-6772-4B79-8D60-B8557D0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85F9-7785-4022-B944-E86F9333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0163-4B41-49C6-951B-E17B03AC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886-E20C-42FC-B483-9B15496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29E-C393-46FC-A890-14231309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84A-C954-4A1E-9461-E1C1288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B92-FD62-4C7F-B229-38FC3D1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239-83B6-4582-8621-3694936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F64-3802-4D17-9286-219DCA7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28D-4A25-4FDB-9B78-931ED1B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75E-0A58-4BCD-A909-80B561500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5C39-54DA-4DD7-8008-AD5F985F44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FC1B-3DC2-4E01-982B-4FE6B606F71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5F3-C0EE-4485-8FA1-28AE48D743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3341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FCF-889E-410A-B3FC-128BE0561D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569-D5DA-4E62-B0E3-B17A7D0B967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3BD-83B6-471D-A657-0CEB94308B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&amp; Constraints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1 bit-cells use Low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-Vdd must be same as Core-V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Can’t use Multi-Vdd to increase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633-C30B-4EDB-A3C8-569960F6C3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4440" y="990720"/>
            <a:ext cx="8534520" cy="3336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-15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4156200"/>
            <a:ext cx="79246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solution: Reduce # cells on a bit-line   </a:t>
            </a:r>
            <a:r>
              <a:rPr b="1" lang="en-US" sz="21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7F5-7FE7-4E48-AA6B-D47E585F1E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  (data-dependent to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8F4-33CB-45BC-9DB5-8C22CC413E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is Bit-line leakage an issu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technology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, high 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pact o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threshol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ergy penalty due to higher required BL s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Temperature Compliant Mem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mem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940-7424-484F-8578-3DFE00FBED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-line Leakage Cance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 leakage value during pre-ch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ject opposite current during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-&gt; I conversion inaccura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-charge to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33960" cy="2371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44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gawa et al,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987-10CC-4234-88D8-778E851085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54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FAB-DC68-4F71-9911-F269EC65E82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5-04T14:24:42Z</dcterms:modified>
  <cp:revision>62</cp:revision>
  <dc:subject/>
  <dc:title>Bit-Line Leakage Cancellation:  Design and Test Automation</dc:title>
</cp:coreProperties>
</file>